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A42-2607-47C8-BB09-2B101B60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709-D5FF-4653-96B1-CA2EF8EF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21F-017C-4CF9-96CF-E6F71567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6DD-A7B2-4514-A961-421DA43B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0800D-500C-49E5-AD7D-13CA00C5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41AA5-2825-4C52-99F7-700D3703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E72D9-933B-4C88-AE8B-1ECAB4BE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C06E2-9A42-4F39-A78F-5E577AD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46F90-FAFF-4564-8DB3-55AE85E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BC990-7201-4B83-8B7B-6F4505BB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FB382-D5EE-4F79-8BF0-482AECD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26C-0E53-47A9-8762-7211250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1588-24C5-40A9-9FB0-54AA941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1694D-F5A9-4A2F-B29C-5B90404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9432D-9A29-4821-A461-36DBBD0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82567-DD13-4D15-808F-ED400686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ED134-8376-4397-AA21-6A69F611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538-DC03-42CB-8B42-77A273B1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9AD-6A15-427D-924A-7FD4650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C21-AE26-45E7-9AB5-1DE7702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1C6-2B49-4E9E-8BE5-5BED3BF1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62A-D3EA-4F6C-92CA-D21E455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3AF-488D-4606-BE86-1D6150D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F00-5E19-4B6E-AEB1-04FD930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7A5-5ECE-4C4F-8C36-B006637A2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C1E-8804-4175-BE7B-05E5AD671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hyperlink" Target="http://www.arte.uh.edu/db/imgs/authors/A_H/De_Hoyos_Angela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American Poetry/New American Poets. From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entury to Beyon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ngston Hughes        Angela de Hoy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1508400" cy="201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1774800" cy="20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langston-hughes2-smaller.jpg"/>
          <p:cNvPicPr/>
          <p:nvPr/>
        </p:nvPicPr>
        <p:blipFill>
          <a:blip r:embed="rId4"/>
          <a:stretch/>
        </p:blipFill>
        <p:spPr>
          <a:xfrm>
            <a:off x="4191120" y="434340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34340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cendentalism Defined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merican literary and philosophical movement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endentalists first formed in New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that intuition and the individual conscience “transcend” experience and are better guides to truth than the senses or logical r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ed individual spirit/the natur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divinity was every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haracteristics of their New Style of Poe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e of free verse (instead of traditional rhyme/meter schem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maginative view of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uenced by self-exploration, the natural world, transcendentalism and the development of the United St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29000" y="5105520"/>
            <a:ext cx="2133720" cy="14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828800" cy="141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7668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etic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it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omatopoe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21:08Z</dcterms:created>
  <dc:creator>Center School District</dc:creator>
  <dc:description/>
  <dc:language>en-US</dc:language>
  <cp:lastModifiedBy>Center School District</cp:lastModifiedBy>
  <dcterms:modified xsi:type="dcterms:W3CDTF">2007-02-27T15:14:51Z</dcterms:modified>
  <cp:revision>3</cp:revision>
  <dc:subject/>
  <dc:title>New American Poetry/New American Poets</dc:title>
</cp:coreProperties>
</file>